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wmf" ContentType="image/x-wmf"/>
  <Override PartName="/ppt/media/image18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6DB1-8991-49DA-8719-9BB45B706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D5C6-DE07-4594-97C2-4129BB30D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6DD3-6E3D-41B3-B019-7BEE86E7C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3C82-F968-4AEE-A4A6-2ABAA9A56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2138E-1D73-4EEE-92FC-EDE39B014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BADBB-33CA-4630-A513-5A258E39A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99BC8-93CD-4335-BA8D-E6FB13C37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6ED63-3584-477B-8E74-CDF80A516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CE598-BD66-43C0-A53B-7923137E3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97000" y="26640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C9809-06A2-4800-BE13-7DD71E5BF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289B3-FACE-4770-AA9F-8D4F55F2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C970-DFC0-4973-ACAB-92B070A75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1F43D-FB27-4ECE-AE9D-AE8A2C28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875A0-B36C-4F76-9C44-5C4A7739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B77FF-0787-40E0-984E-EE87EE7C2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270C1-E20F-49FB-BED5-F9B001CD0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5EECB-7BB9-47BA-A90A-701FFFE1E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E597-4C31-464E-B022-35CC721FB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26D7-CBB2-4633-9320-D5613D0D4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ABA6-375A-4F4B-8CB5-74C839389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97000" y="26640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3773-5FE5-45F5-BF0F-DC36722EE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2A31-8875-4CD8-A3C6-756D4C63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02F9-F26E-484E-85CF-A401E503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6029-2A84-494F-8E79-DF0E0429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859280" y="6381720"/>
            <a:ext cx="1278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33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6249960" y="6381720"/>
            <a:ext cx="13032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33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667640" y="6381720"/>
            <a:ext cx="1278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19B2-CEE3-4233-85D9-4B633C18660F}" type="slidenum">
              <a:rPr b="0" lang="zh-CN" sz="8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76360" y="2706480"/>
            <a:ext cx="511344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859280" y="6381720"/>
            <a:ext cx="1278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6249960" y="6381720"/>
            <a:ext cx="13032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667640" y="6381720"/>
            <a:ext cx="1278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C77A1-8B74-40BD-9CBA-A94529B63AD9}" type="slidenum">
              <a:rPr b="0" lang="zh-CN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" Target="slide12.xm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laser.wav" TargetMode="External"/><Relationship Id="rId2" Type="http://schemas.openxmlformats.org/officeDocument/2006/relationships/image" Target="../media/image3.jpeg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410080" y="6019920"/>
            <a:ext cx="327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447920" y="1981080"/>
            <a:ext cx="7467480" cy="4572000"/>
            <a:chOff x="1447920" y="1981080"/>
            <a:chExt cx="7467480" cy="4572000"/>
          </a:xfrm>
        </p:grpSpPr>
        <p:sp>
          <p:nvSpPr>
            <p:cNvPr id="85" name=""/>
            <p:cNvSpPr txBox="1"/>
            <p:nvPr/>
          </p:nvSpPr>
          <p:spPr>
            <a:xfrm>
              <a:off x="1447920" y="1981080"/>
              <a:ext cx="624816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幼圆"/>
                </a:rPr>
                <a:t>营养要均衡</a:t>
              </a:r>
              <a:endParaRPr b="0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幼圆"/>
                <a:ea typeface="幼圆"/>
              </a:endParaRPr>
            </a:p>
          </p:txBody>
        </p:sp>
        <p:sp>
          <p:nvSpPr>
            <p:cNvPr id="86" name=""/>
            <p:cNvSpPr txBox="1"/>
            <p:nvPr/>
          </p:nvSpPr>
          <p:spPr>
            <a:xfrm>
              <a:off x="5562720" y="6248520"/>
              <a:ext cx="3352680" cy="30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1" strike="noStrike">
                  <a:ln w="12600">
                    <a:solidFill>
                      <a:srgbClr val="800080"/>
                    </a:solidFill>
                    <a:miter/>
                  </a:ln>
                  <a:solidFill>
                    <a:srgbClr val="800080"/>
                  </a:soli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整理者：浙江省建德市新安江第一小学 秦爱军</a:t>
              </a:r>
              <a:endParaRPr b="0" lang="en-US" sz="10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6840" y="1469880"/>
            <a:ext cx="4800600" cy="17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715000" y="3733920"/>
            <a:ext cx="2838600" cy="23778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2743200" y="68580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我是小小营养师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705720" y="304920"/>
            <a:ext cx="1400040" cy="11239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04920" y="3733920"/>
            <a:ext cx="51609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小组合作</a:t>
            </a:r>
            <a:r>
              <a:rPr b="0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利用今天所学的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知识配制一份营养午餐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1981080"/>
            <a:ext cx="456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讨论一下你的食物营养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搭配原则是什么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?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3" name="">
            <a:hlinkClick r:id="" action="ppaction://hlinkshowjump?jump=nextslide"/>
          </p:cNvPr>
          <p:cNvSpPr/>
          <p:nvPr/>
        </p:nvSpPr>
        <p:spPr>
          <a:xfrm>
            <a:off x="5410080" y="228600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1ebde1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4" name="">
            <a:hlinkClick r:id="rId3" action="ppaction://hlinksldjump"/>
          </p:cNvPr>
          <p:cNvSpPr/>
          <p:nvPr/>
        </p:nvSpPr>
        <p:spPr>
          <a:xfrm>
            <a:off x="4876920" y="4495680"/>
            <a:ext cx="304560" cy="304920"/>
          </a:xfrm>
          <a:prstGeom prst="smileyFace">
            <a:avLst>
              <a:gd name="adj" fmla="val 9282"/>
            </a:avLst>
          </a:prstGeom>
          <a:solidFill>
            <a:srgbClr val="1ebde1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indefinite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新宋体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b819e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我的膳食营养搭配原则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、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________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搭配；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、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________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搭配；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、每天都吃适当的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_______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和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_________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、最近运动量比较大，需要多吃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_______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类食物，补充足够的能量；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、最近手指间有一些 脱皮，需要多吃富含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______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的食物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……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523880" y="2133720"/>
            <a:ext cx="662940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通过今天的学习你学会了什么？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2286000"/>
            <a:ext cx="83898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Arial"/>
                <a:ea typeface="宋体"/>
              </a:rPr>
              <a:t>我们从食物中获取各种营养，这些营养必须合理搭配，才能保证我们正常生活和成长，这就是营养的均衡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62320" y="3276720"/>
            <a:ext cx="3352680" cy="3352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15000" y="0"/>
            <a:ext cx="3429000" cy="3679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1066680" y="228600"/>
            <a:ext cx="43434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营养均衡吗？</a:t>
            </a:r>
            <a:endParaRPr b="0" lang="en-US" sz="1800" spc="1" strike="noStrike">
              <a:ln w="0">
                <a:noFill/>
              </a:ln>
              <a:solidFill>
                <a:srgbClr val="ff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0" y="2133720"/>
            <a:ext cx="2371680" cy="3200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6132600" cy="66294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320" y="990720"/>
            <a:ext cx="9115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60093"/>
                </a:solidFill>
                <a:latin typeface="Arial"/>
              </a:rPr>
              <a:t>均衡膳食宝塔</a:t>
            </a: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429000" y="457200"/>
            <a:ext cx="1523880" cy="638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191120" y="1447920"/>
            <a:ext cx="1371600" cy="7999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4267080" y="2514600"/>
            <a:ext cx="1295640" cy="12096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4343400" y="4191120"/>
            <a:ext cx="1228680" cy="904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4648320" y="5638680"/>
            <a:ext cx="904680" cy="486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380880"/>
            <a:ext cx="2971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ff5fd"/>
                </a:solidFill>
                <a:latin typeface="幼圆"/>
                <a:ea typeface="幼圆"/>
              </a:rPr>
              <a:t>“ </a:t>
            </a:r>
            <a:r>
              <a:rPr b="1" lang="zh-CN" sz="3200" spc="-1" strike="noStrike">
                <a:solidFill>
                  <a:srgbClr val="4ff5fd"/>
                </a:solidFill>
                <a:latin typeface="幼圆"/>
                <a:ea typeface="幼圆"/>
              </a:rPr>
              <a:t>宝塔” 中</a:t>
            </a:r>
            <a:r>
              <a:rPr b="1" lang="zh-CN" sz="3200" spc="-1" strike="noStrike">
                <a:solidFill>
                  <a:srgbClr val="ff0000"/>
                </a:solidFill>
                <a:latin typeface="幼圆"/>
                <a:ea typeface="幼圆"/>
              </a:rPr>
              <a:t>哪类食物能支持我们的生长发育？</a:t>
            </a:r>
            <a:r>
              <a:rPr b="1" lang="zh-CN" sz="3200" spc="-1" strike="noStrike">
                <a:solidFill>
                  <a:srgbClr val="cc00cc"/>
                </a:solidFill>
                <a:latin typeface="幼圆"/>
                <a:ea typeface="幼圆"/>
              </a:rPr>
              <a:t>哪类食物能给我们提供能量？</a:t>
            </a:r>
            <a:r>
              <a:rPr b="1" lang="zh-CN" sz="3200" spc="-1" strike="noStrike">
                <a:solidFill>
                  <a:srgbClr val="009900"/>
                </a:solidFill>
                <a:latin typeface="幼圆"/>
                <a:ea typeface="幼圆"/>
              </a:rPr>
              <a:t>哪类食物能使我们保持健康？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248520" y="487692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宝塔”中不同种类食物食用量的多少， 又告诉了我们什么？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486400" y="3479760"/>
            <a:ext cx="3657600" cy="33782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40240" cy="48006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343400" y="3886200"/>
            <a:ext cx="1143000" cy="304920"/>
          </a:xfrm>
          <a:prstGeom prst="leftArrow">
            <a:avLst>
              <a:gd name="adj1" fmla="val 50000"/>
              <a:gd name="adj2" fmla="val 93713"/>
            </a:avLst>
          </a:prstGeom>
          <a:solidFill>
            <a:srgbClr val="1ebde1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742000" y="2743200"/>
            <a:ext cx="3402000" cy="38862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40240" cy="48006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038480" y="2743200"/>
            <a:ext cx="1676520" cy="533520"/>
          </a:xfrm>
          <a:prstGeom prst="leftArrow">
            <a:avLst>
              <a:gd name="adj1" fmla="val 50000"/>
              <a:gd name="adj2" fmla="val 78559"/>
            </a:avLst>
          </a:prstGeom>
          <a:solidFill>
            <a:srgbClr val="1ebde1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014800" y="1752480"/>
            <a:ext cx="4129200" cy="51055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40240" cy="48006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819520" y="609480"/>
            <a:ext cx="2209680" cy="1981440"/>
          </a:xfrm>
          <a:prstGeom prst="leftArrow">
            <a:avLst>
              <a:gd name="adj1" fmla="val 50000"/>
              <a:gd name="adj2" fmla="val 27880"/>
            </a:avLst>
          </a:prstGeom>
          <a:solidFill>
            <a:srgbClr val="1ebde1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5497560" cy="5943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229360" y="1066680"/>
            <a:ext cx="3914640" cy="57913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895480" y="762120"/>
            <a:ext cx="2667240" cy="761760"/>
          </a:xfrm>
          <a:prstGeom prst="leftArrow">
            <a:avLst>
              <a:gd name="adj1" fmla="val 50000"/>
              <a:gd name="adj2" fmla="val 87535"/>
            </a:avLst>
          </a:prstGeom>
          <a:solidFill>
            <a:srgbClr val="1ebde1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这么多食物中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哪些食物应该多吃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哪些食物应该少吃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哪种食物最营养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有包含人类需要的所有营养吗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你能总结一下吗？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0" y="914400"/>
          <a:ext cx="5254560" cy="6765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5254560" cy="676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 txBox="1"/>
          <p:nvPr/>
        </p:nvSpPr>
        <p:spPr>
          <a:xfrm>
            <a:off x="228600" y="380880"/>
            <a:ext cx="4572000" cy="1676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latin typeface="华文新魏"/>
              </a:rPr>
              <a:t>一位小学生一天的食谱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latin typeface="华文新魏"/>
              <a:ea typeface="华文新魏"/>
            </a:endParaRPr>
          </a:p>
        </p:txBody>
      </p:sp>
    </p:spTree>
  </p:cSld>
  <p:transition>
    <p:dissolv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2-18T07:43:24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